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dt" idx="6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ftr" idx="6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 type="sldNum" idx="6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13C1-7F35-4F2E-BB4C-C8CCE98A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FDD6-27D8-4A79-BFCA-F5F9F044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3062-6345-4D03-ADC1-53A1CA01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R’S CHOICE TEXT PAGE 541  EXERCISE #2  IN JOURNALS—FOLLOW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E61-961E-46E3-83A1-09C0720D1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43A6-AB59-4A28-BC0E-3B54F518D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AE9-497F-437C-82D7-FF82B696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B8CB-0F93-4508-8675-41A41F50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F4AE-E031-413C-92F0-5B187013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994-1E2F-49EE-9389-516BF800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r’s Choice text p. 541 ex. 2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C95F-672B-4213-86BF-A8DD4559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3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69 worksheet p. 237-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B7D-451D-4F13-B725-F55A22E2D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C0DE-EACB-4245-B797-94AA7C07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579-1554-4549-AC7C-3A726783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6C33-5973-4AEA-8DCC-FD7C704E5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C66-9796-433A-87BB-797989D4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E55-9AB6-4D53-BDC6-D59FCA8F3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2F7-ED9A-400D-89C1-94A7B369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49E-C184-497A-B9A5-54D268459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C893-5806-40C2-938A-CBE3F9F7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9490-445A-4F9B-8439-4E525C8D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DAY 5 ASSIGNMENT #3 CLASS WORK p. 543 text exercise 4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8CA-E4FF-4880-A366-4B816C4A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  COMPLETE WORKSHEETS 241-244 IN CLASS  Check and record.  2 points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C796-6AAE-4523-8F35-CF2127DD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967F-5F58-4EF8-99FA-0ECFE22D6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09FA-CD86-43FD-9383-6293E8679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5AA-9555-4EC7-85B1-1B6B4DB8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5513-C1E7-44D7-A66F-80F46A4B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AC77-6DBA-4864-8864-4696C2B1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AF3B-57DA-40FA-B432-79106C93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A9A4-F857-43F5-A032-EEC584E8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1641-2D25-40EF-9D06-4CD9CC979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 ASSIGNMENT  SLIDE 36  Follow directions.  Check and record tomorrow.  2 points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4682-F902-43C1-9E34-3768529F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9B6F-10FE-47ED-80B4-F7D38994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522-D646-4B6C-8A2B-AEB69AE77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947D-F00A-4A27-B47C-00DCA7E06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A36-779B-4105-9573-AF2F0826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1  ASSIGNMENT #1 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  FOLLOW DIRECTIONS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09A-7C74-46D8-BDE5-F4B1B80C1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R’S CHOICE TEXT PAGE 541  EXERCISE #2  IN JOURNALS—FOLLOW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F90-AB4E-479C-A88F-503B16A4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D8D-D2F9-4F6D-BA7A-E3FA85CC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D655-B9E1-46C8-A008-B08ABB8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E4D4D-7105-4791-96D9-A222DBC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B489D-AD8F-4F72-9378-D9AF1FD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75305-691D-4F3C-8AD4-12D61C48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54CD-73A2-4E30-847A-4E7DFF7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D654-84A6-4036-9339-DE2F1BC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41F2-A49C-4C17-B1ED-EE607E0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6290-3BE2-4632-A24D-7A047F55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6B78-3845-4C6C-8F0D-D819B2CB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A4E2-8AE9-431E-9326-5D6D975B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4E0-F05D-4AC7-A008-23E56246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9639E-C849-4039-B981-455DB51F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5945-5B9A-4860-9A2E-B1D3D29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D5C6D-DE74-42DD-8FCB-983F9A3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2DB6B-29EB-40E0-B954-600DB062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F103-BD5E-4AD6-B8EF-716F9B3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5B8EA-6007-4F6B-98FF-BCF768B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C2A9B-78F9-4C1E-807A-BA9A7A8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73339-AD4E-4566-9D38-1E032B3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8ECE0-8390-4775-ADD1-38B1ABB4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1E5A-42DB-400A-A165-69ADAD67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41B-2CD9-4CFD-967D-228D5883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BE5D-9115-4473-96CB-0204A107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81041-53AD-4B31-B2AB-D185731B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71BA0-26BD-4B42-A271-A8AC8D9B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024FB-E6F7-493C-A6FC-852DFEF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019B0-74E0-40C4-B2F6-63B1433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CBDBC-B18A-471F-93D6-772CA0A5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35603-B21E-41AF-BD74-96CE3A57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3C6F5-FF76-4989-84D2-E0DC9E9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258D2-B121-4447-B1AD-EE8AFBC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1F02-BDCB-42BE-AFFA-5350920D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4DA06-194A-4121-A7A3-D8FD6EE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71DB8-8BFC-42B8-8B65-2EC49196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9A635-7316-4AAE-9912-1DD1457A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C72F5-C1C5-4C2B-BBE0-C98399DB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1F3B1-3A3A-471A-8FE8-4E5A5DC1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4415A-AF73-49A3-AC62-B44FB5BF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047D0-F6F8-4C8F-96D0-1450EEAA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ECBC3-0F92-4680-9638-DE29499F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497C-4252-40AE-A785-265E48E7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C4AD9-E526-4DD6-B559-EFBBF41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9D1B-7EA2-4176-B4E3-027748C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CCEAF-ABFB-42D7-BA79-1895B7A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E740E-707C-41C5-9503-1639B5B5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1A406-BDD3-4473-AB9D-A3315E63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2782A-49D4-4E24-AEA2-7A3C14E0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5BAC1-1B87-41CC-917D-142F1E66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4A4B0-A9BF-4FA7-B55F-146EF22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58B9B-9DF6-4B6C-85E4-4BA1AC13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D88FD-DEA5-40DF-B69C-B4A506B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B0F43-6895-4B9D-A7EE-2B56459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7A79-5BC0-4709-9F92-78C6999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1693E-BFAB-46B4-BFA1-1F2FCED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13676-0C93-4A29-85E4-EA28B762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B3127-0E4B-42FB-B87F-B50E2B2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F20DC-9AD6-41AE-BF04-FABA906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97CF4-F128-4B72-9867-939CF759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C6818-3856-42BB-B980-75AF694B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AB7D9-5B98-4E9A-BBA0-8BCD1BB9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61DE7-1B52-4846-9CDA-C42F76C7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E798-EDCC-49C7-9BFE-12DD87F6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CE7CC-8E88-4B56-8F75-7BC2EB8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287F6-A21A-489C-8FEE-EFB20B75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F04B6-0746-419C-ADED-43F5D9D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4FD38-6D04-4883-A7C8-1CB8D30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0F879-BFF8-4312-8AF4-8743A31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1FF9F-F9F0-4161-B72E-00B3200E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02F46-6878-4A83-B134-1C1A2A9B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86364-03D4-4C1A-B1C8-5806A7E0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66CA6-B611-4EC8-A831-914080F6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92BD2-1BC6-4A5C-9526-FF481258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1A878-59C0-41D7-984F-9EBBFAA7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4C5BE-19AD-4AA9-8133-AFBD7CAC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2E68A-9E2F-4A46-9080-4BC8BA1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B7C23-24B0-408A-953D-444FD576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24BC3-FAD1-4F02-9953-2F22D679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5A2EB-558E-436D-A66C-776D426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E62E8-14DA-4EF0-BC6D-782A346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D5794-4D6B-40F6-8BBD-262564E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C5492-2943-4E7B-8E02-2E3DE4BE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E96A4-0D2F-4EBA-A94D-AC424330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7C539-6AFF-4F71-8B7F-44373EA7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43259-3153-4433-968F-77DBEECE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27402-5F8D-4498-9B5A-2EC7E35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26A68-F969-42DB-B869-E75E876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FE733-0A2A-4CFE-BB55-F551A110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EC60-6340-4324-8A9D-C3ADC7F5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D61D0-7284-4403-B25F-E874A60D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6D47E-D7CC-40EF-8F4E-E7420EC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D7B2C-952B-4E2B-9531-05B6996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E6347-BEC5-4AC7-A7B3-B0B2DCAC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5F7C0-2B0D-4ED3-89B6-F7714F50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68BA0-CF3C-4473-B379-48B2B2F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859EC-385A-4495-B060-61AFCB62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60E63-755E-45B8-9415-5F46BF33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BC841-8301-4ECB-BD18-FD47CBE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680A6-D2FD-4D53-B435-B8B5ADA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FCFCC-EEFD-49C2-B808-7E3870A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9312F-DB17-4639-A58D-BAEA5781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69A45-AFAB-407C-99B7-F8DDB8FF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80533A-F7AE-4DD5-8A75-A0956A3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694-3096-44BB-BC4B-C190BFD7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08DFE-AF48-4CBF-AE6C-FA7CC84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0D45B-B3B4-4543-A3B6-1C584B84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FC564-A1BC-4F53-A613-70F3669B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6F2FD-CA70-48BC-B2F3-180A5168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8BE47-8C6F-4C3F-9092-20B4EBEB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12825-C873-43E6-83BF-8F533480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92FA6-560B-4B8D-ABA7-37BD822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41E04-377E-4481-B16C-2CEB2317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B9259-9CA8-4373-A376-368D0FBC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8D9D6-15EC-4999-8FF8-F12C3CA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3C626-A44A-46FD-BB59-B023CA76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68998-4D32-464A-8784-961ABA58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B0205-2F7D-4AAD-A849-09920A2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E34B5-6500-4D48-ADC2-5E66EA6D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23986-FDB7-4EA8-A22F-C2461A1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1C1A4-0331-4F9C-AC92-88880AC1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0B5F7-794B-44E4-8718-E7D6C8AE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9A276-2C13-4624-B6A8-330D3949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45739-188C-4542-8B4F-06303F98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5EC3E-55C2-439F-9146-9BAB7450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7038E-2A21-49EF-855B-86E4608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693B0-DC29-41BB-B71E-5E41DE7C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B0934-9961-45C4-939E-E429DAE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0AFB2-1987-40DC-954E-E4DE6B2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37963-239E-4E2B-96F8-A963F214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208AC-F47D-4A0D-93DA-3CB01A0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7F7B7-2577-438D-9DB3-7B4C2D6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869C3-03B4-4DF9-821F-FDD26D5C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3E8EE-8219-4D49-BF8C-E44587ED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E49FB-08E2-4C5C-8ED5-E8F4814C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A9721-4EEC-404B-A95C-41F238D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E4580-9F12-49F8-BE51-66B90204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18FDA-DD34-4823-BA25-32855DC8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08514-938B-4DC7-9763-6A44558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E53F9-EA37-47F1-86F0-D108D16A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72C64-E825-4BD7-B0E8-86D75D8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AF90E-A952-42DE-B7B8-50D1360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0A819-C5F2-48B2-BCA3-AD2956F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05CC3-6CE4-4394-8E16-6E690350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9457A-6E0E-447B-97A1-2E29AFBE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45D83-3304-4624-9231-2AC2BC36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87062-2EED-402E-BF6E-8ADE6234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81FAE-0C22-406E-B860-438EBD3F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7FE01-5B09-4FB1-A555-BE87DE2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74FC0-F7B8-4D05-B349-9A4D918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A3E00-6E0B-412D-8BE0-2CF7BBD6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91F1A-54E0-4310-8A1D-44C75738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FC273-0505-415C-809B-A067DD9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D2AD7-0C8E-4230-9B1D-7DC38B2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77E8F-6B2B-46E9-B17B-9D1C5CD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E9A83-E1B4-43DB-B2EA-E8870516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3D60A-0C82-4453-A177-BD18DDCD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9F1F5-0D3B-4120-AD2A-058DC1AA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72FCF-B775-42C4-82B9-5160CCC8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D74A2-9BD2-4D4C-AA7E-AF8E145A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1A139-D849-4DEF-9C9C-95C768CA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5C430-7FAA-4E22-BBCA-AD607468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73875-E7EB-4998-AD87-EED56EF3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2F1F6-20A9-4EF2-A39B-CFCAC4C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85209-D3D8-4C9E-9B72-90B2942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23015-EDE9-4242-B6BC-DF03DD9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3844A-A455-43E7-A866-FF32258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E48A1-5CA9-426D-89F0-A35D0463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EED09-7D05-4962-82EC-C7AB954A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5E522-CEE3-419F-B05D-2E02CB24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D3F50-E674-4FDD-96B2-1E868F7E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35653-03AA-4830-A7D0-CA860E8E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874AC-38EC-4182-AF46-448F0FC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A3E9C-5C41-467B-A56A-9979A231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39586-63A5-4748-B266-5658C70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366EB-35BC-4A01-AF6C-72293CF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22687-1CBB-4D03-A64E-712DDAFB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405F3-F3DD-4360-965D-AC7A4069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0ABCD-7D5C-481A-9B9A-4C8AAAD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2FE36-E57D-4F6E-B083-2827F7E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B8A11-EFFE-42AE-86A3-F0F3368C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ACBA3-B1CF-4973-9B59-913350D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04C-44E1-4057-99C5-F84F60B1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06A-F3F0-4928-BFC4-C0EC54CE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F51-37C5-4FBA-B876-28BEC23A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2A55-2C42-4A0D-B9AE-B9CA7FE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954-F087-40B4-B7B6-736B4C65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B931-3BE3-4297-A082-288489BA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6416-D214-4D08-830C-346284AC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DE7-686E-45B5-A173-22EF8BB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6925-49C5-4D33-876F-15A4A43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29A-6CB4-4948-9DCA-C5716B7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FEDB-D6A3-4AA9-AF4D-7666C54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944-9558-48D2-B0AA-3C1584AE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EB5A-2965-4BB3-BD94-F66AA02F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CA35-BDCC-435F-9729-4CC425D6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3144-D9A0-403F-8374-D1E04631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AA6-B290-4F9F-BDCC-FEFCDAA8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67C8-EAF6-4021-B2DF-049899C4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C0A8-5FEF-477B-92E4-096BB3C2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F64F-10BD-4CF7-B749-4F35B1D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C6BC-7D42-41DA-B167-4A861BE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6D8F-1CD7-4E4F-9601-D6964516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DA09-9DB1-455A-B01F-B8D56B1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E012-705E-4221-9983-AE1DB1C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78EA-5E71-4A6E-BB90-55AC399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11B2-27BF-4FF5-9F1D-7DB6BD37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3212-4E30-49A5-A05C-7F783982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399-0ED8-4122-8F82-08982D9C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C77E-48C2-4DC8-9FB5-FCAE9CCB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1971-FEDD-4051-840E-3A779DA4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6992-F5CD-493D-A5B0-4F1933E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4E5E-88EB-4912-99F1-4705B62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7DDC-5F65-4A1F-9D86-6EE047B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053B-C73A-465C-9905-8634AA56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A5E8-B52C-4467-B080-95AFA8EC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761E-98BB-4FA7-A438-6271306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A3465-1C14-49CA-B376-E056BA5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63DE-FF17-4CC9-84C9-C65F3549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ED9-61A9-477F-AAAD-19991A2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EAFD-B38B-4FDF-8DCA-9E967DAD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34CE-D798-4138-B94D-FDF8D20A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4C24-B52B-4BF2-B008-6DD9277D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1C02-ADB6-40CD-8BBF-E5CEF988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EDB8-D6D7-4E3E-A6B4-576B51E8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531F-1EBA-462B-B2AB-18F2E62C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8F102-1E02-4433-AD40-A472DCE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63EA-E968-47C8-8B96-495C6A5F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F6E57-C1C5-46CF-B560-3857A756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2615-7C80-4983-B5C6-396ED98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B49-3A7E-42D0-9BA6-CF4AEDB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D7D6-FA35-40F6-901D-7D88A78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D190-4CE3-4053-B240-4BA0E18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2BD0-5A63-457B-9AB9-90211A84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DF8A-AC93-4471-8FD6-1DC73AAD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53D62-F78E-4722-A509-FB03E1E9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8BD1-E078-4C26-B579-A21A9950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6836-EEC0-426C-99AA-76F1B9F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2708-DBD8-4933-855B-3770C3D4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D9DE5-322E-40FB-B388-CC593A19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E950-463B-4EF4-992E-48F1B2E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612-F3A7-48E5-BDAD-EC7B59B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9978-E8FB-49D5-B70E-3573E60B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524B-7DF8-4DAE-9A80-DA287E0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9BBD8-3A03-4BDB-9C68-3D96BD2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BF164-86A3-4101-AC12-1186F1A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FA8BD-38D5-4DDA-B108-A9B4A26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CE27-DEB1-4D66-9FEB-846543F2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FBD2-EAB5-4B21-B463-B34419B4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13C7-9F9F-475E-94B5-2CA40420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AA82-8EC0-4977-91F7-8A0467F6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756A-E45B-4D5D-A29B-64227357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7CBD-5171-4B32-91E9-4CECE9B31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C45B-0D6F-481F-B88A-2C31C655FC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708-F66E-43AE-9E72-9F2B3F785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07E6-7C74-446C-80C7-32D388F34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384B-BF93-4406-A9DD-6515FD4BB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F7B-02BB-4609-A3EF-087B79C790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C6B-8A2D-4A64-8B57-AA8AFC75A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8ABE-F532-4E7C-8D04-11C7522DF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EB3-446D-4A0C-9C7D-2D198C3F4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DC1-E005-4C75-9E46-68FA5DE37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8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8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9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9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0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EC7-0D81-40F3-A3A4-43AE2E9D3C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02A-0E84-4F83-A420-555E906DF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945-2EA5-4FFD-9E9A-F4FCA5ED5F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8185-C6A6-486D-A154-8023F6BFD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3C96-7710-4A1F-A362-2A30A1D23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A5B-4CF2-42D5-AB02-9095BBD8F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4BA2-1E56-4B6E-997F-C6388FD52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EFE-F357-4865-B317-A35BBA61A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C3B-9B2C-4F9D-A45E-8E56C5AA3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FB48-B404-4E2E-9099-DE9B22846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1044-8446-404A-B67C-1DBB862A6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D3F-1213-4687-8783-A99AAD5B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WordArt 3"/>
          <p:cNvSpPr txBox="1"/>
          <p:nvPr/>
        </p:nvSpPr>
        <p:spPr>
          <a:xfrm>
            <a:off x="914400" y="762120"/>
            <a:ext cx="701028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pitalization</a:t>
            </a:r>
            <a:endParaRPr b="0" lang="en-US" sz="2400" spc="1" strike="noStrike">
              <a:ln w="1260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2" name="Picture 4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500200" cy="274320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5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all notes in journals and complete ass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70B-DDFC-4ECD-BE53-FF28A6485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a title or an abbreviation of a title when it comes before a person’s name or when it is used instead of a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4"/>
          <p:cNvSpPr/>
          <p:nvPr/>
        </p:nvSpPr>
        <p:spPr>
          <a:xfrm>
            <a:off x="533520" y="3718080"/>
            <a:ext cx="8610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eral Lee     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. John Glen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s. Ada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d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eutenant Clark say, “Yes,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tain, I’ll go with you’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30F-0EEB-4EBA-B4D7-B28B9371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2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Do not capitalize a title that follows a person’s name or is used as a common no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4"/>
          <p:cNvSpPr/>
          <p:nvPr/>
        </p:nvSpPr>
        <p:spPr>
          <a:xfrm>
            <a:off x="228600" y="2971800"/>
            <a:ext cx="8610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k himself was later promoted to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mas Jefferson, then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dent, planned the expedi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012-5B2C-4FA9-B952-94E70C50D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the names and abbreviations of academic degrees that follow a person’s name.  Capitalize </a:t>
            </a:r>
            <a:r>
              <a:rPr b="0" i="1" lang="en-US" sz="4000" spc="-1" strike="noStrike">
                <a:solidFill>
                  <a:srgbClr val="990000"/>
                </a:solidFill>
                <a:latin typeface="Comic Sans MS"/>
              </a:rPr>
              <a:t>Jr.</a:t>
            </a: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 and </a:t>
            </a:r>
            <a:r>
              <a:rPr b="0" i="1" lang="en-US" sz="4000" spc="-1" strike="noStrike">
                <a:solidFill>
                  <a:srgbClr val="990000"/>
                </a:solidFill>
                <a:latin typeface="Comic Sans MS"/>
              </a:rPr>
              <a:t>Sr.</a:t>
            </a: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"/>
          <p:cNvSpPr/>
          <p:nvPr/>
        </p:nvSpPr>
        <p:spPr>
          <a:xfrm>
            <a:off x="228600" y="373392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. Katayama,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n Rangel,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bert Ayers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C018-970F-435D-8EFD-81AC3B2D3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words that show family relationships when used as titles or as substitutes for a person’s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228600" y="3276720"/>
            <a:ext cx="8610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1960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her retraced the steps of Lewis and Cla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was accompanied by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cle B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A46-696C-4DE0-A02A-D600CCBAC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4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-360" y="1905120"/>
            <a:ext cx="883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Do not capitalize words that show family relationships when they follow a possessive noun or prono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"/>
          <p:cNvSpPr/>
          <p:nvPr/>
        </p:nvSpPr>
        <p:spPr>
          <a:xfrm>
            <a:off x="228600" y="4632480"/>
            <a:ext cx="8610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haron’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t Janet wrote an article about the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"/>
          <p:cNvSpPr/>
          <p:nvPr/>
        </p:nvSpPr>
        <p:spPr>
          <a:xfrm>
            <a:off x="2286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ossessive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7"/>
          <p:cNvSpPr/>
          <p:nvPr/>
        </p:nvSpPr>
        <p:spPr>
          <a:xfrm flipV="1">
            <a:off x="1295280" y="54100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Picture 8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6172200" y="5486400"/>
            <a:ext cx="1417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4D0-3C33-4B95-A198-E85AD3FBA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-360" y="1905120"/>
            <a:ext cx="883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Always capitalize the pronoun </a:t>
            </a:r>
            <a:r>
              <a:rPr b="0" i="1" lang="en-US" sz="4000" spc="-1" strike="noStrike">
                <a:solidFill>
                  <a:srgbClr val="990000"/>
                </a:solidFill>
                <a:latin typeface="Comic Sans MS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4"/>
          <p:cNvSpPr/>
          <p:nvPr/>
        </p:nvSpPr>
        <p:spPr>
          <a:xfrm>
            <a:off x="228600" y="3733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cial studies is the subject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Picture 8" descr="C:\WINDOWS\Application Data\Microsoft\Media Catalog\Downloaded Clips\cl41\j0162964.gif"/>
          <p:cNvPicPr/>
          <p:nvPr/>
        </p:nvPicPr>
        <p:blipFill>
          <a:blip r:embed="rId1"/>
          <a:stretch/>
        </p:blipFill>
        <p:spPr>
          <a:xfrm>
            <a:off x="2971800" y="4270320"/>
            <a:ext cx="3048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4CD8-3FC4-4A3B-8157-9F0F91D89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"/>
          <p:cNvSpPr/>
          <p:nvPr/>
        </p:nvSpPr>
        <p:spPr>
          <a:xfrm>
            <a:off x="5335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riter’s Choice text p. 541—exercise 2 in journals.  Check and record to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4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6583320" y="4896000"/>
            <a:ext cx="2560680" cy="196200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Assignment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68D2-DB3C-47EB-8345-7D80C9B5B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2"/>
          <p:cNvSpPr/>
          <p:nvPr/>
        </p:nvSpPr>
        <p:spPr>
          <a:xfrm>
            <a:off x="609480" y="1676520"/>
            <a:ext cx="815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Class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orksheet Lesson 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TLW use rules of capitalization for names and tit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Picture 3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6583320" y="609480"/>
            <a:ext cx="2560680" cy="196236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Assignmen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C36-D672-4B68-B104-C39E9CBC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533520" y="19051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names of cities, counties, states countries, and contin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6"/>
          <p:cNvSpPr/>
          <p:nvPr/>
        </p:nvSpPr>
        <p:spPr>
          <a:xfrm>
            <a:off x="609480" y="4419720"/>
            <a:ext cx="8534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st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ng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nt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w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C3EB-7BDA-451D-B5F4-1478E9E12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2"/>
          <p:cNvSpPr/>
          <p:nvPr/>
        </p:nvSpPr>
        <p:spPr>
          <a:xfrm>
            <a:off x="533520" y="15238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names of bodies of water and geographical feat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"/>
          <p:cNvSpPr/>
          <p:nvPr/>
        </p:nvSpPr>
        <p:spPr>
          <a:xfrm>
            <a:off x="304920" y="380988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iterranean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f of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agara Fal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lantic Oc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94A1-E4DA-4976-92C8-66261FB4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066320" y="281952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Capitalize the first word of a sent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4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oneers pushed the American frontier westwa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5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Showcard Gothic"/>
              </a:rPr>
              <a:t>Capitalizing sentences, quotations, and letter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F10-427B-44B2-8726-72D0A0D78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2"/>
          <p:cNvSpPr/>
          <p:nvPr/>
        </p:nvSpPr>
        <p:spPr>
          <a:xfrm>
            <a:off x="533520" y="15238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names of sections of the coun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4"/>
          <p:cNvSpPr/>
          <p:nvPr/>
        </p:nvSpPr>
        <p:spPr>
          <a:xfrm>
            <a:off x="304920" y="380988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wes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w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03F-A13E-4267-9221-F21E8471F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2"/>
          <p:cNvSpPr/>
          <p:nvPr/>
        </p:nvSpPr>
        <p:spPr>
          <a:xfrm>
            <a:off x="533520" y="15238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compass points when they refer to a specific section of the coun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304920" y="4572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as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h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C8C6-D089-484D-BD69-E2738D193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Do not capitalize compass points when they indicate dire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s Angeles is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th of San Franc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Do not capitalize adjectives derived from words indicating dir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terly wi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stern Texas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4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0D9-5204-4CC0-BB66-4B319ECC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streets and high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ro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ee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te 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cury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lev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y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5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A3FF-2434-4FDD-9C9A-531BC9AE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buildings, bridges, and monu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ysle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i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oklyn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hington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6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A829-C502-44EA-B3BA-879B06553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celestial bod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u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th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lky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7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2" name="Picture 4" descr="C:\WINDOWS\Application Data\Microsoft\Media Catalog\Downloaded Clips\cl57\j0219085.gif"/>
          <p:cNvPicPr/>
          <p:nvPr/>
        </p:nvPicPr>
        <p:blipFill>
          <a:blip r:embed="rId1"/>
          <a:stretch/>
        </p:blipFill>
        <p:spPr>
          <a:xfrm>
            <a:off x="304920" y="4587840"/>
            <a:ext cx="2239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B58F-3597-4599-9904-038A38C48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"/>
          <p:cNvSpPr/>
          <p:nvPr/>
        </p:nvSpPr>
        <p:spPr>
          <a:xfrm>
            <a:off x="1143000" y="1752480"/>
            <a:ext cx="708660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Classwork: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  TLW identify and use the rules to capitalization for place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xtbook p. 543  exercise 4 in journal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howcard Gothic"/>
              </a:rPr>
              <a:t>ASSIGNMENT #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686-49EE-4270-9BD2-EE5DCB1A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2"/>
          <p:cNvSpPr/>
          <p:nvPr/>
        </p:nvSpPr>
        <p:spPr>
          <a:xfrm>
            <a:off x="533520" y="129528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TLW FOLLOW THE RULES OF CAPITALIZATION FOR NAMES OF PLA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CLASS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Lesson 70 p. 241-2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howcard Gothic"/>
              </a:rPr>
              <a:t>Day 5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568D-041D-4307-9E76-0650AC35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other proper nouns and adjectiv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6"/>
          <p:cNvSpPr/>
          <p:nvPr/>
        </p:nvSpPr>
        <p:spPr>
          <a:xfrm>
            <a:off x="685800" y="2057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clubs, organizations, businesses, institutions, and political pa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7"/>
          <p:cNvSpPr/>
          <p:nvPr/>
        </p:nvSpPr>
        <p:spPr>
          <a:xfrm>
            <a:off x="838080" y="403848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a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pora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y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publican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Picture 8" descr="D:\msworks\PFiles\MSWorks\Clipart\Standard\stddir1\AN04302_.WMF"/>
          <p:cNvPicPr/>
          <p:nvPr/>
        </p:nvPicPr>
        <p:blipFill>
          <a:blip r:embed="rId1"/>
          <a:stretch/>
        </p:blipFill>
        <p:spPr>
          <a:xfrm>
            <a:off x="6858000" y="5791320"/>
            <a:ext cx="914400" cy="81432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9" descr="D:\msworks\PFiles\MSWorks\Clipart\Standard\stddir1\BD06275_.WMF"/>
          <p:cNvPicPr/>
          <p:nvPr/>
        </p:nvPicPr>
        <p:blipFill>
          <a:blip r:embed="rId2"/>
          <a:stretch/>
        </p:blipFill>
        <p:spPr>
          <a:xfrm>
            <a:off x="7467480" y="4724280"/>
            <a:ext cx="990720" cy="8575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0" descr="D:\msworks\PFiles\MSWorks\Clipart\Standard\stddir4\PE04004_.wmf"/>
          <p:cNvPicPr/>
          <p:nvPr/>
        </p:nvPicPr>
        <p:blipFill>
          <a:blip r:embed="rId3"/>
          <a:stretch/>
        </p:blipFill>
        <p:spPr>
          <a:xfrm>
            <a:off x="2362320" y="4800600"/>
            <a:ext cx="4744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7EAF-0CAA-453F-AE9A-EC3BF869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68580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brand names but not the nouns following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5"/>
          <p:cNvSpPr/>
          <p:nvPr/>
        </p:nvSpPr>
        <p:spPr>
          <a:xfrm>
            <a:off x="762120" y="312408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ncho peanut bu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ffy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eaning fl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Picture 9" descr="C:\WINDOWS\Application Data\Microsoft\Media Catalog\Downloaded Clips\cl22\j0086080.wmf"/>
          <p:cNvPicPr/>
          <p:nvPr/>
        </p:nvPicPr>
        <p:blipFill>
          <a:blip r:embed="rId1"/>
          <a:stretch/>
        </p:blipFill>
        <p:spPr>
          <a:xfrm>
            <a:off x="533520" y="3276720"/>
            <a:ext cx="1041120" cy="95724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0" descr="D:\msworks\PFiles\MSWorks\Clipart\Standard\stddir3\HH02303_.wmf"/>
          <p:cNvPicPr/>
          <p:nvPr/>
        </p:nvPicPr>
        <p:blipFill>
          <a:blip r:embed="rId2"/>
          <a:stretch/>
        </p:blipFill>
        <p:spPr>
          <a:xfrm>
            <a:off x="4952880" y="4876920"/>
            <a:ext cx="17910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B2F-C759-409B-84FB-004965A99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first word of a direct quotation that is a complete senten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4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yrone said, “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pioneers acted very bravely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Picture 5" descr="D:\msworks\PFiles\MSWorks\Clipart\Standard\stddir4\PE01855_.wmf"/>
          <p:cNvPicPr/>
          <p:nvPr/>
        </p:nvPicPr>
        <p:blipFill>
          <a:blip r:embed="rId1"/>
          <a:stretch/>
        </p:blipFill>
        <p:spPr>
          <a:xfrm>
            <a:off x="6400800" y="4800600"/>
            <a:ext cx="1909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AC53-C58F-451B-97AE-B2264E6C7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68580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important historical events, periods of time, and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"/>
          <p:cNvSpPr/>
          <p:nvPr/>
        </p:nvSpPr>
        <p:spPr>
          <a:xfrm>
            <a:off x="762120" y="327672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tle of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k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nz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 of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D631-CCD9-4406-B8F9-5C82F165C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4"/>
          <p:cNvSpPr/>
          <p:nvPr/>
        </p:nvSpPr>
        <p:spPr>
          <a:xfrm>
            <a:off x="685800" y="99072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names of days of the week, months of the year, and holidays.  Do not capitalize names of the s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5"/>
          <p:cNvSpPr/>
          <p:nvPr/>
        </p:nvSpPr>
        <p:spPr>
          <a:xfrm>
            <a:off x="762120" y="327672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orial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9D5A-AE84-43A9-BA7D-500C96E7C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4"/>
          <p:cNvSpPr/>
          <p:nvPr/>
        </p:nvSpPr>
        <p:spPr>
          <a:xfrm>
            <a:off x="304920" y="99072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apitalize the first word, the last word, and all important words in the title of a book, play, short story, poem, essay, article, film television series, song, magazine, newspaper, and chapter of a bo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762120" y="388620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inkle in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ve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shington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45BA-6D3D-4E37-9781-3D5BE9E70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4"/>
          <p:cNvSpPr/>
          <p:nvPr/>
        </p:nvSpPr>
        <p:spPr>
          <a:xfrm>
            <a:off x="304920" y="9907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apitalize the names of ethnic groups, nationalities, and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5"/>
          <p:cNvSpPr/>
          <p:nvPr/>
        </p:nvSpPr>
        <p:spPr>
          <a:xfrm>
            <a:off x="685800" y="236232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929-A665-49EE-90F8-E5432FDA8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4"/>
          <p:cNvSpPr/>
          <p:nvPr/>
        </p:nvSpPr>
        <p:spPr>
          <a:xfrm>
            <a:off x="304920" y="9907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apitalize proper adjectives that are formed from the names of ethnic groups and nation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5"/>
          <p:cNvSpPr/>
          <p:nvPr/>
        </p:nvSpPr>
        <p:spPr>
          <a:xfrm>
            <a:off x="685800" y="281952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an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lian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lish auth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36D0-29B6-40C5-86C8-E0C7136EC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LW FOLLOW RULES OF CAPITALIZATION FOR NOUNS AND PROPER AD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riter’s Choice text p. 545—exercise 6 in journals.  Check and record to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howcard Gothic"/>
              </a:rPr>
              <a:t>Assignment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EB7-18FF-49AA-8D21-2441C265F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When a quoted sentence is interrupted by explanatory words, such as she said, do not begin the second part of the sentence with a capital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"/>
          <p:cNvSpPr/>
          <p:nvPr/>
        </p:nvSpPr>
        <p:spPr>
          <a:xfrm>
            <a:off x="0" y="4114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left their homes,” said Lee, “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ey could improve their live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584C-8CDE-4421-AF9E-FA3ED48B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3 continu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When the second part of a quotation is a new sentence, put a period after the interrupting expression, and begin the second part of the quotation with a capital l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0" y="37339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y pioneers went west for the rich farmland,” said Maria.  “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y also wanted to build new home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4E1F-05A7-47FC-97DC-EA49A4FF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Do not capitalize an indirect quotation.  An indirect quotation does not repeat a person’s exact words and does not appear in quotation marks.  It is often introduced by the word </a:t>
            </a:r>
            <a:r>
              <a:rPr b="1" i="1" lang="en-US" sz="3600" spc="-1" strike="noStrike">
                <a:solidFill>
                  <a:srgbClr val="990000"/>
                </a:solidFill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0" y="4495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nya read </a:t>
            </a: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y pioneers traveled in Conestoga wag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E06-5A21-4E18-8ADE-569F4EF4C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first word in the salutation and closing of a letter.  Capitalize the title and name of the person addres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0" y="373392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 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s. 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ns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 frie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s truly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ere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070C-F09D-4897-8824-6EFEF571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Assignmen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609120" y="21337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orksheet Lesson #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Study the review notes and follow the direc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4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5029200" y="4300560"/>
            <a:ext cx="28656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7641-2A99-4A58-9F3A-E13E16FE0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Showcard Gothic"/>
              </a:rPr>
              <a:t>Capitalizing people’s names and titl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-360" y="2209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the names of people and the initials that stand for their na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5"/>
          <p:cNvSpPr/>
          <p:nvPr/>
        </p:nvSpPr>
        <p:spPr>
          <a:xfrm>
            <a:off x="533520" y="4114800"/>
            <a:ext cx="8001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iwether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w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an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th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4:43:53Z</dcterms:created>
  <dc:creator>Sandra Boyd</dc:creator>
  <dc:description/>
  <dc:language>en-US</dc:language>
  <cp:lastModifiedBy>Nadia Williams</cp:lastModifiedBy>
  <dcterms:modified xsi:type="dcterms:W3CDTF">2014-02-27T15:24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